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833C-2CA7-41F2-80BB-1C0E7D62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B5E8-ECD0-4AF8-AEB9-3C0AD3A9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6D2-851D-4E40-A92A-BD28558A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17DA-B5DE-4B1B-A47A-507DA895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78A9-EC47-47F4-AD8A-07B0A70B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CF2-4208-4C7E-A8F2-3A6D813D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6A77-8D4E-4282-9DDC-4693AAB1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EA1-013F-44B9-B446-AFECE0CF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C2CC-D186-4134-961A-0AA2AE17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1B76-3993-4E96-894F-4F8C8EB7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5E79-8FF8-4190-92C4-E7576EDB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F378-FA36-4A8C-A0C3-1D7BC655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69ED-09B3-45AF-A9AE-C0553183F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Elephant"/>
              </a:rPr>
              <a:t>Jasón y los Argonauta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ddddd"/>
                </a:solidFill>
                <a:latin typeface="Eras Bold ITC"/>
              </a:rPr>
              <a:t>Su referente en Indiana Jones y la última cruz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Fases comu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Eras Bold ITC"/>
                <a:hlinkClick r:id="rId1" action="ppaction://hlinksldjump"/>
              </a:rPr>
              <a:t>El encargo previo._x000b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Eras Bold ITC"/>
                <a:hlinkClick r:id="rId2" action="ppaction://hlinksldjump"/>
              </a:rPr>
              <a:t>El largo viaje.</a:t>
            </a:r>
            <a:br>
              <a:rPr sz="2800"/>
            </a:br>
            <a:r>
              <a:rPr b="0" lang="en-US" sz="2800" spc="-1" strike="noStrike" u="sng">
                <a:solidFill>
                  <a:srgbClr val="dddddd"/>
                </a:solidFill>
                <a:uFillTx/>
                <a:latin typeface="Eras Bol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Eras Bold ITC"/>
              </a:rPr>
              <a:t>Llegada al lugar y enfrentamiento.</a:t>
            </a:r>
            <a:br>
              <a:rPr sz="2800"/>
            </a:br>
            <a:r>
              <a:rPr b="1" lang="en-US" sz="2800" spc="-1" strike="noStrike">
                <a:solidFill>
                  <a:srgbClr val="dddddd"/>
                </a:solidFill>
                <a:latin typeface="Eras Bol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Eras Bold ITC"/>
              </a:rPr>
              <a:t>Ayuda femenina inesperada.</a:t>
            </a:r>
            <a:br>
              <a:rPr sz="2800"/>
            </a:br>
            <a:r>
              <a:rPr b="1" lang="en-US" sz="2800" spc="-1" strike="noStrike">
                <a:solidFill>
                  <a:srgbClr val="dddddd"/>
                </a:solidFill>
                <a:latin typeface="Eras Bol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Eras Bold ITC"/>
              </a:rPr>
              <a:t>Huida accidentada.</a:t>
            </a:r>
            <a:br>
              <a:rPr sz="2800"/>
            </a:br>
            <a:r>
              <a:rPr b="1" lang="en-US" sz="2800" spc="-1" strike="noStrike">
                <a:solidFill>
                  <a:srgbClr val="dddddd"/>
                </a:solidFill>
                <a:latin typeface="Eras Bol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Eras Bold ITC"/>
              </a:rPr>
              <a:t>Retorno victori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Elephant"/>
                <a:hlinkClick r:id="rId1" action="ppaction://hlinksldjump"/>
              </a:rPr>
              <a:t>Encargo prev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ras Bold ITC"/>
              </a:rPr>
              <a:t>Búsqueda del paradero del Santo Grial mediante un diario de pis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4032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Elephant"/>
                <a:hlinkClick r:id="rId1" action="ppaction://hlinksldjump"/>
              </a:rPr>
              <a:t>Largo viaj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Viaje recorrido por Indiana para buscar el Santo G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705672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Elephant"/>
                <a:hlinkClick r:id="rId1" action="ppaction://hlinksldjump"/>
              </a:rPr>
              <a:t>Llegada al lugar y enfrentamien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Enfrentamiento contra  la hermandad de la Santa Cruz en Vene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Enfrentamiento en el castillo con un grupo de creencia naz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68360" y="3500280"/>
            <a:ext cx="4038480" cy="1914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4038840" cy="1866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885080" y="4581360"/>
            <a:ext cx="79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Ayuda femenina inesperad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Eras Bold ITC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Eras Bold ITC"/>
              </a:rPr>
              <a:t>Ayuda de la doctora Elsa Schneider, aliada de los naz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564000" y="2727360"/>
            <a:ext cx="4968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Huida accidentad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2781360"/>
            <a:ext cx="3097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Eras Bold ITC"/>
              </a:rPr>
              <a:t>A la salida del templo de Alejandreta se encuentran con otro perc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573084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Retorno victorios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03640" y="2420640"/>
            <a:ext cx="289080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Indiana consigue sus propósitos: encontrar a su padre y al Santo G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2874960" cy="40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867280" y="1916280"/>
            <a:ext cx="30085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432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Realizado por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 Marina Eg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16:54:59Z</dcterms:created>
  <dc:creator>alberto</dc:creator>
  <dc:description/>
  <dc:language>en-US</dc:language>
  <cp:lastModifiedBy>alberto</cp:lastModifiedBy>
  <dcterms:modified xsi:type="dcterms:W3CDTF">2010-01-04T16:47:15Z</dcterms:modified>
  <cp:revision>4</cp:revision>
  <dc:subject/>
  <dc:title>Jasón y los Argonautas</dc:title>
</cp:coreProperties>
</file>